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DD5-2B72-4CF2-A435-86944BEB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182-A4A3-4D68-8BA5-18606599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70B-2AEC-490C-9C72-57F1933E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B9E-488B-49F5-AE8B-A7F7187E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8328-B715-4554-8676-64A8418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C69-F08A-486A-83F6-1891BAB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E39-4D14-476E-821F-8164166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A11F-10B3-4739-A7C3-312400A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FF80-BCB8-4828-9F1B-CE649FE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3DAD-E6D5-46A5-9604-B49A7C5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5A9-638C-4C22-907B-29A1C39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E70-A233-4734-AE37-BE88257F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9604-D9C4-4886-8420-FDB9A19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5691-FCC7-4A81-81A3-D62E140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F9C-2E75-4E49-8F4E-09C77FD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F001-06FB-4554-A6AA-7EC0DED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D11C-2A4D-40C8-B30D-30EFDC5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684-CEB2-4E5F-B6F7-480057E5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AAF-47A3-43F1-AC26-CE8DFAC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33F-ED47-44DA-95B7-71934BA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7FD-2768-4B80-ABF8-68367E9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2FA-1B17-49D2-AABD-865EB25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8DE-9A75-4CAF-B45C-1B9868C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CD4-E2D8-426E-AD80-CD402D6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44F-8F7F-4401-8C32-651A6DBC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E87-8E68-4299-9D58-8A245B1963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18560" cy="374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kk-KZ" sz="4800" spc="-1" strike="noStrike">
                <a:solidFill>
                  <a:srgbClr val="b9efee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b9efee"/>
                </a:solidFill>
                <a:latin typeface="Times New Roman"/>
              </a:rPr>
              <a:t>Тақырыбы№5:Мемлекеттік қаржының жалпы сипаттамасы.</a:t>
            </a:r>
            <a:br>
              <a:rPr sz="4400"/>
            </a:br>
            <a:r>
              <a:rPr b="1" lang="kk-KZ" sz="4400" spc="-1" strike="noStrike">
                <a:solidFill>
                  <a:srgbClr val="b9efee"/>
                </a:solidFill>
                <a:latin typeface="Times New Roman"/>
              </a:rPr>
              <a:t>Мемлекеттік кірістер мен шығындар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ff00"/>
                </a:solidFill>
                <a:latin typeface="Garamond"/>
              </a:rPr>
              <a:t>Бақылау қызметі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ақылау қызметі қоғамдық өнім құнының ақшалай формадағы қозғалысына қаржылық бақылау жасауда көрінеді және басқа қызметтерінен бөлек емес, солармен органикалық байланыста әрекет ет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F:\жанара\ано.bmp"/>
          <p:cNvPicPr/>
          <p:nvPr/>
        </p:nvPicPr>
        <p:blipFill>
          <a:blip r:embed="rId2"/>
          <a:stretch/>
        </p:blipFill>
        <p:spPr>
          <a:xfrm>
            <a:off x="428760" y="442908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b9efee"/>
                </a:solidFill>
                <a:latin typeface="Times New Roman"/>
              </a:rPr>
              <a:t>Мемлекеттік қаржы, мемлекеттік кіріс және шығындар құрам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16000" y="1268280"/>
            <a:ext cx="6769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268360" y="1268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d30f0f"/>
                </a:solidFill>
                <a:latin typeface="Times New Roman"/>
              </a:rPr>
              <a:t>Қоғамның қаржылық ресурста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24000" y="2133720"/>
            <a:ext cx="2232000" cy="25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059280" y="2133720"/>
            <a:ext cx="2376360" cy="25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796000" y="2133720"/>
            <a:ext cx="3168720" cy="25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324000" y="2637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125892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176364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50920" y="2060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Мемлекеттің қаржылық ресурстар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5"/>
          <p:cNvSpPr/>
          <p:nvPr/>
        </p:nvSpPr>
        <p:spPr>
          <a:xfrm rot="16200000">
            <a:off x="-435240" y="3178440"/>
            <a:ext cx="231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Мемлекеттік кәсіпорындар мен ұйымдардың қаржылық ресурстар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6"/>
          <p:cNvSpPr/>
          <p:nvPr/>
        </p:nvSpPr>
        <p:spPr>
          <a:xfrm rot="16200000">
            <a:off x="438840" y="345672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Garamond"/>
              </a:rPr>
              <a:t>Мемлекеттік бюдже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7"/>
          <p:cNvSpPr/>
          <p:nvPr/>
        </p:nvSpPr>
        <p:spPr>
          <a:xfrm rot="16200000">
            <a:off x="980640" y="334800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Мемлекеттік бюджеттен тыс қорл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059280" y="263700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349236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464328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987640" y="213372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Мемлекеттік емес сектордың қаржылық ресурстар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22"/>
          <p:cNvSpPr/>
          <p:nvPr/>
        </p:nvSpPr>
        <p:spPr>
          <a:xfrm rot="16200000">
            <a:off x="2133360" y="334656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Үй шаруашылықтар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23"/>
          <p:cNvSpPr/>
          <p:nvPr/>
        </p:nvSpPr>
        <p:spPr>
          <a:xfrm rot="16200000">
            <a:off x="2778840" y="313272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Мемлекеттік емес шаруашылық жүргізуші субъектіле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24"/>
          <p:cNvSpPr/>
          <p:nvPr/>
        </p:nvSpPr>
        <p:spPr>
          <a:xfrm rot="16200000">
            <a:off x="3896640" y="33814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Қоғамдық ұйымд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25"/>
          <p:cNvSpPr/>
          <p:nvPr/>
        </p:nvSpPr>
        <p:spPr>
          <a:xfrm>
            <a:off x="5796000" y="263700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644364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774072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694836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8244000" y="2637000"/>
            <a:ext cx="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867280" y="21337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Сыртқы(шетелдік) қаржы көздерінен түскен қаржылық ресурст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31"/>
          <p:cNvSpPr/>
          <p:nvPr/>
        </p:nvSpPr>
        <p:spPr>
          <a:xfrm rot="16200000">
            <a:off x="5410440" y="36712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Займал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2"/>
          <p:cNvSpPr/>
          <p:nvPr/>
        </p:nvSpPr>
        <p:spPr>
          <a:xfrm rot="16200000">
            <a:off x="6058080" y="374292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Несиеле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3"/>
          <p:cNvSpPr/>
          <p:nvPr/>
        </p:nvSpPr>
        <p:spPr>
          <a:xfrm rot="16200000">
            <a:off x="6237000" y="3348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Дамуға ресми түрде көрсетілген көме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34"/>
          <p:cNvSpPr/>
          <p:nvPr/>
        </p:nvSpPr>
        <p:spPr>
          <a:xfrm rot="16200000">
            <a:off x="6778080" y="324036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Трансфеттер,грантт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35"/>
          <p:cNvSpPr/>
          <p:nvPr/>
        </p:nvSpPr>
        <p:spPr>
          <a:xfrm rot="16200000">
            <a:off x="8037000" y="37069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99"/>
                </a:solidFill>
                <a:latin typeface="Times New Roman"/>
              </a:rPr>
              <a:t>Басқала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1258920" y="5013360"/>
            <a:ext cx="417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692360" y="5013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d30f0f"/>
                </a:solidFill>
                <a:latin typeface="Times New Roman"/>
              </a:rPr>
              <a:t>Мемлекеттік кірі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56"/>
          <p:cNvGrpSpPr/>
          <p:nvPr/>
        </p:nvGrpSpPr>
        <p:grpSpPr>
          <a:xfrm>
            <a:off x="324000" y="5589720"/>
            <a:ext cx="8281800" cy="807480"/>
            <a:chOff x="324000" y="5589720"/>
            <a:chExt cx="8281800" cy="807480"/>
          </a:xfrm>
        </p:grpSpPr>
        <p:sp>
          <p:nvSpPr>
            <p:cNvPr id="168" name="Rectangle 38"/>
            <p:cNvSpPr/>
            <p:nvPr/>
          </p:nvSpPr>
          <p:spPr>
            <a:xfrm>
              <a:off x="395280" y="5661000"/>
              <a:ext cx="8137440" cy="720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Line 39"/>
            <p:cNvSpPr/>
            <p:nvPr/>
          </p:nvSpPr>
          <p:spPr>
            <a:xfrm>
              <a:off x="395280" y="5950080"/>
              <a:ext cx="813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Line 40"/>
            <p:cNvSpPr/>
            <p:nvPr/>
          </p:nvSpPr>
          <p:spPr>
            <a:xfrm>
              <a:off x="2843280" y="5950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>
              <a:off x="5724360" y="5950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1979640" y="558972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d30f0f"/>
                  </a:solidFill>
                  <a:latin typeface="Times New Roman"/>
                </a:rPr>
                <a:t>Шығындар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24000" y="5950080"/>
              <a:ext cx="39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тік емес секторлар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3203640" y="595008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Text Box 45"/>
            <p:cNvSpPr/>
            <p:nvPr/>
          </p:nvSpPr>
          <p:spPr>
            <a:xfrm>
              <a:off x="5724360" y="5877000"/>
              <a:ext cx="28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ті кәсіпорындар мен ұйымдар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AutoShape 46"/>
          <p:cNvSpPr/>
          <p:nvPr/>
        </p:nvSpPr>
        <p:spPr>
          <a:xfrm>
            <a:off x="1403280" y="184464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AutoShape 47"/>
          <p:cNvSpPr/>
          <p:nvPr/>
        </p:nvSpPr>
        <p:spPr>
          <a:xfrm>
            <a:off x="4067280" y="184464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AutoShape 48"/>
          <p:cNvSpPr/>
          <p:nvPr/>
        </p:nvSpPr>
        <p:spPr>
          <a:xfrm>
            <a:off x="6877080" y="184464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9"/>
          <p:cNvSpPr/>
          <p:nvPr/>
        </p:nvSpPr>
        <p:spPr>
          <a:xfrm>
            <a:off x="1476360" y="472428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50"/>
          <p:cNvSpPr/>
          <p:nvPr/>
        </p:nvSpPr>
        <p:spPr>
          <a:xfrm>
            <a:off x="2124000" y="472428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AutoShape 51"/>
          <p:cNvSpPr/>
          <p:nvPr/>
        </p:nvSpPr>
        <p:spPr>
          <a:xfrm>
            <a:off x="3132000" y="4724280"/>
            <a:ext cx="144720" cy="28908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52"/>
          <p:cNvSpPr/>
          <p:nvPr/>
        </p:nvSpPr>
        <p:spPr>
          <a:xfrm>
            <a:off x="3851280" y="472428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AutoShape 53"/>
          <p:cNvSpPr/>
          <p:nvPr/>
        </p:nvSpPr>
        <p:spPr>
          <a:xfrm>
            <a:off x="4932360" y="472428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AutoShape 54"/>
          <p:cNvSpPr/>
          <p:nvPr/>
        </p:nvSpPr>
        <p:spPr>
          <a:xfrm>
            <a:off x="539640" y="4724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55"/>
          <p:cNvSpPr/>
          <p:nvPr/>
        </p:nvSpPr>
        <p:spPr>
          <a:xfrm>
            <a:off x="7380360" y="4724280"/>
            <a:ext cx="287280" cy="936720"/>
          </a:xfrm>
          <a:prstGeom prst="downArrow">
            <a:avLst>
              <a:gd name="adj1" fmla="val 50000"/>
              <a:gd name="adj2" fmla="val 815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5"/>
          <p:cNvGrpSpPr/>
          <p:nvPr/>
        </p:nvGrpSpPr>
        <p:grpSpPr>
          <a:xfrm>
            <a:off x="324000" y="1268280"/>
            <a:ext cx="8354520" cy="1134720"/>
            <a:chOff x="324000" y="1268280"/>
            <a:chExt cx="8354520" cy="1134720"/>
          </a:xfrm>
        </p:grpSpPr>
        <p:sp>
          <p:nvSpPr>
            <p:cNvPr id="187" name="Rectangle 6"/>
            <p:cNvSpPr/>
            <p:nvPr/>
          </p:nvSpPr>
          <p:spPr>
            <a:xfrm>
              <a:off x="395640" y="1370160"/>
              <a:ext cx="8209080" cy="1032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395640" y="1784520"/>
              <a:ext cx="820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2865240" y="1784520"/>
              <a:ext cx="0" cy="61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5771880" y="1784520"/>
              <a:ext cx="0" cy="61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1994040" y="1268280"/>
              <a:ext cx="384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d30f0f"/>
                  </a:solidFill>
                  <a:latin typeface="Times New Roman"/>
                </a:rPr>
                <a:t>Шығындар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324000" y="1784520"/>
              <a:ext cx="39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тік емес секторлар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Text Box 12"/>
            <p:cNvSpPr/>
            <p:nvPr/>
          </p:nvSpPr>
          <p:spPr>
            <a:xfrm>
              <a:off x="3228840" y="1784520"/>
              <a:ext cx="23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Text Box 13"/>
            <p:cNvSpPr/>
            <p:nvPr/>
          </p:nvSpPr>
          <p:spPr>
            <a:xfrm>
              <a:off x="5771880" y="1679760"/>
              <a:ext cx="29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000000"/>
                  </a:solidFill>
                  <a:latin typeface="Times New Roman"/>
                </a:rPr>
                <a:t>Мемлекетті кәсіпорындар мен ұйымдар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468360" y="3716280"/>
            <a:ext cx="8137440" cy="1368360"/>
            <a:chOff x="468360" y="3716280"/>
            <a:chExt cx="8137440" cy="1368360"/>
          </a:xfrm>
        </p:grpSpPr>
        <p:sp>
          <p:nvSpPr>
            <p:cNvPr id="196" name="Rectangle 14"/>
            <p:cNvSpPr/>
            <p:nvPr/>
          </p:nvSpPr>
          <p:spPr>
            <a:xfrm>
              <a:off x="468360" y="3716280"/>
              <a:ext cx="8137440" cy="1368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1405080" y="3716280"/>
              <a:ext cx="583236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000" spc="-1" strike="noStrike">
                  <a:solidFill>
                    <a:srgbClr val="d30f0f"/>
                  </a:solidFill>
                  <a:latin typeface="Times New Roman"/>
                </a:rPr>
                <a:t>Әлеуметтік-экономикалық қажеттіліктер: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99"/>
                  </a:solidFill>
                  <a:latin typeface="Times New Roman"/>
                </a:rPr>
                <a:t>Өндірістік, әлеуметтік, рухани, экологиялық, ұйымдастыру-басқару, құқықтық тәртіпті қорғау және қорғаныс  және т.б.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8" name="AutoShape 17"/>
          <p:cNvSpPr/>
          <p:nvPr/>
        </p:nvSpPr>
        <p:spPr>
          <a:xfrm>
            <a:off x="1042920" y="2421000"/>
            <a:ext cx="865080" cy="1295280"/>
          </a:xfrm>
          <a:prstGeom prst="downArrow">
            <a:avLst>
              <a:gd name="adj1" fmla="val 50000"/>
              <a:gd name="adj2" fmla="val 374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849840" y="2421000"/>
            <a:ext cx="793440" cy="1295280"/>
          </a:xfrm>
          <a:prstGeom prst="downArrow">
            <a:avLst>
              <a:gd name="adj1" fmla="val 50000"/>
              <a:gd name="adj2" fmla="val 4081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6804000" y="2421000"/>
            <a:ext cx="863640" cy="1295280"/>
          </a:xfrm>
          <a:prstGeom prst="downArrow">
            <a:avLst>
              <a:gd name="adj1" fmla="val 50000"/>
              <a:gd name="adj2" fmla="val 3749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5"/>
          <p:cNvSpPr/>
          <p:nvPr/>
        </p:nvSpPr>
        <p:spPr>
          <a:xfrm>
            <a:off x="2195640" y="189000"/>
            <a:ext cx="489744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d30f0f"/>
                </a:solidFill>
                <a:latin typeface="Garamond"/>
              </a:rPr>
              <a:t>Бюдж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3" name="Group 10"/>
          <p:cNvGrpSpPr/>
          <p:nvPr/>
        </p:nvGrpSpPr>
        <p:grpSpPr>
          <a:xfrm>
            <a:off x="395280" y="2997360"/>
            <a:ext cx="3671640" cy="1657080"/>
            <a:chOff x="395280" y="2997360"/>
            <a:chExt cx="3671640" cy="1657080"/>
          </a:xfrm>
        </p:grpSpPr>
        <p:sp>
          <p:nvSpPr>
            <p:cNvPr id="204" name="AutoShape 6"/>
            <p:cNvSpPr/>
            <p:nvPr/>
          </p:nvSpPr>
          <p:spPr>
            <a:xfrm>
              <a:off x="395280" y="2997360"/>
              <a:ext cx="3671640" cy="1657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682560" y="3502080"/>
              <a:ext cx="28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d30f0f"/>
                  </a:solidFill>
                  <a:latin typeface="Times New Roman"/>
                </a:rPr>
                <a:t>Республикалық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4643280" y="2997360"/>
            <a:ext cx="3673800" cy="1657080"/>
            <a:chOff x="4643280" y="2997360"/>
            <a:chExt cx="3673800" cy="1657080"/>
          </a:xfrm>
        </p:grpSpPr>
        <p:sp>
          <p:nvSpPr>
            <p:cNvPr id="207" name="AutoShape 7"/>
            <p:cNvSpPr/>
            <p:nvPr/>
          </p:nvSpPr>
          <p:spPr>
            <a:xfrm>
              <a:off x="4643280" y="2997360"/>
              <a:ext cx="3673800" cy="1657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5076720" y="357336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400" spc="-1" strike="noStrike">
                  <a:solidFill>
                    <a:srgbClr val="d30f0f"/>
                  </a:solidFill>
                  <a:latin typeface="Times New Roman"/>
                </a:rPr>
                <a:t>Жергілікті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9" name="AutoShape 12"/>
          <p:cNvSpPr/>
          <p:nvPr/>
        </p:nvSpPr>
        <p:spPr>
          <a:xfrm rot="771000">
            <a:off x="1025640" y="1273320"/>
            <a:ext cx="720720" cy="1368360"/>
          </a:xfrm>
          <a:custGeom>
            <a:avLst/>
            <a:gdLst>
              <a:gd name="textAreaLeft" fmla="*/ 96480 w 720720"/>
              <a:gd name="textAreaRight" fmla="*/ 624240 w 72072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AutoShape 13"/>
          <p:cNvSpPr/>
          <p:nvPr/>
        </p:nvSpPr>
        <p:spPr>
          <a:xfrm rot="20725800">
            <a:off x="7143480" y="1333080"/>
            <a:ext cx="792000" cy="1150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Прямоугольник 14"/>
          <p:cNvSpPr/>
          <p:nvPr/>
        </p:nvSpPr>
        <p:spPr>
          <a:xfrm>
            <a:off x="5214960" y="5072040"/>
            <a:ext cx="2571840" cy="17859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2" name="Группа 19"/>
          <p:cNvGrpSpPr/>
          <p:nvPr/>
        </p:nvGrpSpPr>
        <p:grpSpPr>
          <a:xfrm>
            <a:off x="785880" y="5000760"/>
            <a:ext cx="2643120" cy="1857240"/>
            <a:chOff x="785880" y="5000760"/>
            <a:chExt cx="2643120" cy="1857240"/>
          </a:xfrm>
        </p:grpSpPr>
        <p:sp>
          <p:nvSpPr>
            <p:cNvPr id="213" name="Прямоугольник 13"/>
            <p:cNvSpPr/>
            <p:nvPr/>
          </p:nvSpPr>
          <p:spPr>
            <a:xfrm>
              <a:off x="785880" y="5000760"/>
              <a:ext cx="2500560" cy="1857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TextBox 16"/>
            <p:cNvSpPr/>
            <p:nvPr/>
          </p:nvSpPr>
          <p:spPr>
            <a:xfrm>
              <a:off x="857160" y="5072040"/>
              <a:ext cx="25718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Мемлекеттік мақсаттық бағдарламалар;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Қорғаныс,шекара қорғау;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Құқықтық тәртіпті сақтау;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Мемлекеттік басқару;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Әлеуметтік сфераны дамыту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Garamond"/>
                </a:rPr>
                <a:t>Халықаралық міндеттемелерді орындау;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5" name="TextBox 17"/>
          <p:cNvSpPr/>
          <p:nvPr/>
        </p:nvSpPr>
        <p:spPr>
          <a:xfrm>
            <a:off x="5286240" y="5214960"/>
            <a:ext cx="2428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Garamond"/>
              </a:rPr>
              <a:t>Өндіргіш күштерді орналастырудың экономикалық процесстері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Garamond"/>
              </a:rPr>
              <a:t>Территориялық инфрақұрылымды және әлеуметтік сфераны дамыту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Стрелка вниз 18"/>
          <p:cNvSpPr/>
          <p:nvPr/>
        </p:nvSpPr>
        <p:spPr>
          <a:xfrm>
            <a:off x="1500120" y="4643280"/>
            <a:ext cx="42876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Стрелка вниз 20"/>
          <p:cNvSpPr/>
          <p:nvPr/>
        </p:nvSpPr>
        <p:spPr>
          <a:xfrm>
            <a:off x="6215040" y="4643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млекеттік кіріс </a:t>
            </a:r>
            <a:r>
              <a:rPr b="1" lang="kk-KZ" sz="32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– мемлекет меншігіне  оның қызмет етуінің материалдық базасын құруға қажет қаражаттар жиынтығы түсетін экономикалық қатынастра жүйесі.Мемлекеттік кірістің экономикалық табиғаты тауар-ақша қатынастарының дамуына ,өндіріс тәсіліне,мемлекет табиғаты мен қызметтеріне негізделеді.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500040" y="213660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млекеттік кіріс көздері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мемлекеттік меншіктен түскен кіріс,оған пайда түріндегі мемлекеттік кәсіпорындар мен ұйымдардың таза табысы,ҚҚС, акциздер,кедендік табыстар жатады;мемлекеттік мүліктен түсетін табыс;бюджеттік мекемелердің арнаулы қаражаттары,оған ғимараттары жалдағаны үшін алынатын арендалық төлем,қосымша кәсіпорындар табысы жата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Garamond"/>
              </a:rPr>
              <a:t>Мемлекеттік кіріс төмендегідей түрде топтастырылады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72579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шік формаларын ұйымдық-құқықтық рәсімдеуге байланыс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ұрылу сферасына байланыс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талықтандыру дәрежесі бойынш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2" descr="F:\жанара\жд.bmp"/>
          <p:cNvPicPr/>
          <p:nvPr/>
        </p:nvPicPr>
        <p:blipFill>
          <a:blip r:embed="rId2"/>
          <a:stretch/>
        </p:blipFill>
        <p:spPr>
          <a:xfrm>
            <a:off x="6143760" y="4714920"/>
            <a:ext cx="2323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млекеттік шығындар </a:t>
            </a:r>
            <a:r>
              <a:rPr b="1" lang="kk-KZ" sz="28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мемлекет қызметін қаржыландырады.</a:t>
            </a:r>
            <a:br>
              <a:rPr sz="2800"/>
            </a:b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млекеттік шығындар құрамы </a:t>
            </a:r>
            <a:r>
              <a:rPr b="1" lang="kk-KZ" sz="28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– мемлекеттік бюджет шығындары,мемлекеттік бюджеттен тыс қорлар,мемлекеттік кәсіпорындар мен ұйымдар,өндірістік және өндірістік емес сфералар мекемелерінің қаржылары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0000"/>
                </a:solidFill>
                <a:latin typeface="Garamond"/>
              </a:rPr>
              <a:t>Мемлекеттік шығындарды топтастыру белгілері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Экономикалық мазмұны бойынш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Мақсаттық белгісі бойынш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Территориялық белгі бойынш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Picture 2" descr="F:\жанара\ртпьт.bmp"/>
          <p:cNvPicPr/>
          <p:nvPr/>
        </p:nvPicPr>
        <p:blipFill>
          <a:blip r:embed="rId2"/>
          <a:stretch/>
        </p:blipFill>
        <p:spPr>
          <a:xfrm>
            <a:off x="214200" y="3857760"/>
            <a:ext cx="2810160" cy="237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F:\жанара\.л..bmp"/>
          <p:cNvPicPr/>
          <p:nvPr/>
        </p:nvPicPr>
        <p:blipFill>
          <a:blip r:embed="rId3"/>
          <a:stretch/>
        </p:blipFill>
        <p:spPr>
          <a:xfrm>
            <a:off x="3643200" y="3429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0000"/>
                </a:solidFill>
                <a:latin typeface="Garamond"/>
              </a:rPr>
              <a:t>Мемлекеттік шығындар әртүрлі бағытта қолданылад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ны дамыту шығынд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леуметтік мәдени шаралары,білім беру,демалыс және т.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әдениет пен өнерді қаржыланды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лықты әлеуметтік қорғау шығынд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Ғылыми-техникалық прогрессті қаржыланды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орғаны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сқару шығынд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2" descr="F:\жанара\лл.bmp"/>
          <p:cNvPicPr/>
          <p:nvPr/>
        </p:nvPicPr>
        <p:blipFill>
          <a:blip r:embed="rId2"/>
          <a:stretch/>
        </p:blipFill>
        <p:spPr>
          <a:xfrm>
            <a:off x="6510240" y="435780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жоспа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ң экономикалық және әлеуметтік қызметі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к қаржы түсінігі, қаржылық қатынастар жүйесіндегі оның орны мен ролі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к кіріс түсінігі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к кірістің құрамы мен құрылымы. Мемлекеттік шығын түсінігі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к кіріс, мемлекеттік шығын және қаржылық ресурстар қатына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Мемлекеттік шығындар жүйесі, оларды ұйымдастыру қағидала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Garamond"/>
              </a:rPr>
              <a:t>.Нарық шаруашылықтағы мемлекет қаржы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b9efee"/>
                </a:solidFill>
                <a:latin typeface="Garamond"/>
              </a:rPr>
              <a:t>Бюджеттік қаржыландыру формалар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Дот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Субвен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Субсид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2" descr="F:\жанара\шеп.bmp"/>
          <p:cNvPicPr/>
          <p:nvPr/>
        </p:nvPicPr>
        <p:blipFill>
          <a:blip r:embed="rId2"/>
          <a:stretch/>
        </p:blipFill>
        <p:spPr>
          <a:xfrm>
            <a:off x="3286080" y="2428920"/>
            <a:ext cx="4457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b9efee"/>
                </a:solidFill>
                <a:latin typeface="Garamond"/>
              </a:rPr>
              <a:t>Мемлекеттік шығындарды қаржыландыру әдістері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Меншікті ресурстар,банк несиелері және жетпеген жағдайда – бюджеттен қаржы бөлу есебіне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4" descr="F:\жанара\нрро.bmp"/>
          <p:cNvPicPr/>
          <p:nvPr/>
        </p:nvPicPr>
        <p:blipFill>
          <a:blip r:embed="rId2"/>
          <a:stretch/>
        </p:blipFill>
        <p:spPr>
          <a:xfrm>
            <a:off x="3357720" y="3143160"/>
            <a:ext cx="46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 u="sng">
                <a:solidFill>
                  <a:srgbClr val="d30f0f"/>
                </a:solidFill>
                <a:uFillTx/>
                <a:latin typeface="Times New Roman"/>
              </a:rPr>
              <a:t>Мақсаты</a:t>
            </a:r>
            <a:r>
              <a:rPr b="1" i="1" lang="kk-KZ" sz="4800" spc="-1" strike="noStrike">
                <a:solidFill>
                  <a:srgbClr val="d30f0f"/>
                </a:solidFill>
                <a:latin typeface="Times New Roman"/>
              </a:rPr>
              <a:t>:</a:t>
            </a:r>
            <a:r>
              <a:rPr b="1" lang="kk-KZ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kk-KZ" sz="4800" spc="-1" strike="noStrike">
                <a:solidFill>
                  <a:srgbClr val="b9efee"/>
                </a:solidFill>
                <a:latin typeface="Times New Roman"/>
              </a:rPr>
              <a:t>Мемлекеттік қаржымен, кірістер және шығындармен таныстыру, мемлекеттік кірістердің қалыптасуын және мемлекеттік шығындарды жұмсау бағыттарын көрсету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Мемлекет қаржысы</a:t>
            </a:r>
            <a:r>
              <a:rPr b="1" lang="kk-KZ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мемлекеттік сектордағы көптеген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d30f0f"/>
                </a:solidFill>
                <a:latin typeface="Times New Roman"/>
              </a:rPr>
              <a:t>өндірістік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және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d30f0f"/>
                </a:solidFill>
                <a:latin typeface="Times New Roman"/>
              </a:rPr>
              <a:t>әлеуметтік</a:t>
            </a:r>
            <a:r>
              <a:rPr b="1" lang="kk-KZ" sz="3600" spc="-1" strike="noStrike">
                <a:solidFill>
                  <a:srgbClr val="d30f0f"/>
                </a:solidFill>
                <a:latin typeface="Times New Roman"/>
              </a:rPr>
              <a:t> қатынастарды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амтиды.</a:t>
            </a:r>
            <a:br>
              <a:rPr sz="3600"/>
            </a:b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Мемлекеттік қаржының</a:t>
            </a:r>
            <a:r>
              <a:rPr b="1" lang="kk-KZ" sz="3600" spc="-1" strike="noStrike">
                <a:solidFill>
                  <a:srgbClr val="d30f0f"/>
                </a:solidFill>
                <a:latin typeface="Times New Roman"/>
              </a:rPr>
              <a:t> </a:t>
            </a:r>
            <a:r>
              <a:rPr b="1" i="1" lang="kk-KZ" sz="3600" spc="-1" strike="noStrike" u="sng">
                <a:solidFill>
                  <a:srgbClr val="d30f0f"/>
                </a:solidFill>
                <a:uFillTx/>
                <a:latin typeface="Times New Roman"/>
              </a:rPr>
              <a:t>экономикалық мәні</a:t>
            </a:r>
            <a:r>
              <a:rPr b="1" lang="kk-KZ" sz="3600" spc="-1" strike="noStrike">
                <a:solidFill>
                  <a:srgbClr val="d30f0f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– олардың қоғамдық өнім құны мен ұлттық байлықтың бір бөлігін бөлу және қайта бөлуге байланысты ақшалай қатынастарды көрсететіндігінде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4200" y="500040"/>
            <a:ext cx="8429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Garamond"/>
              </a:rPr>
              <a:t>Мемлекеттің  қаржысы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лы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ргілікті (муниципалдық) денгейде іс-әрекет етеді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тік бюджетті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тен тыс қорлард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тік кредитті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тік және жергілікті кәсіпорындар мен ұйымдардың қаржыларына қіріктіреді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2"/>
          <p:cNvSpPr/>
          <p:nvPr/>
        </p:nvSpPr>
        <p:spPr>
          <a:xfrm>
            <a:off x="428760" y="1714680"/>
            <a:ext cx="87152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лық  және әлеуметтік сфераға мемлекеттік басшылықтың денгейіне қарай мемлекеттің қаржыс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i="1" lang="kk-KZ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алпымемлекеттік(республикалық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i="1" lang="kk-KZ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ергілікті( муниципалдық ) қаржылар болып бөлінеді</a:t>
            </a:r>
            <a:r>
              <a:rPr b="0" lang="kk-KZ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00"/>
                </a:solidFill>
                <a:latin typeface="Times New Roman"/>
              </a:rPr>
              <a:t>Мемлекеттік қаржыда мемлекет қызметтері кеңірек көрінеді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Ресурстарды қайта бөл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Экономиканы тұрақтанды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бысты қайта бөл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айлықты қайта бөл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F:\жанара\.ддл.bmp"/>
          <p:cNvPicPr/>
          <p:nvPr/>
        </p:nvPicPr>
        <p:blipFill>
          <a:blip r:embed="rId2"/>
          <a:stretch/>
        </p:blipFill>
        <p:spPr>
          <a:xfrm>
            <a:off x="5786280" y="314316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F:\жанара\Безымянныйд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Garamond"/>
              </a:rPr>
              <a:t>Мемлекет қаржысының функциялары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өл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ақыла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ff00"/>
                </a:solidFill>
                <a:latin typeface="Times New Roman"/>
              </a:rPr>
              <a:t>Бөлу қызметі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өлу қызметі арқылы жалпы қоғамдық өнім және оның маңызды бөлігі – ҰТ,сондай-ақ, ұлттық байлықтың бір бөлігі бөлінеді және мемлекеттің, еңбек ұжымдарының, жекелеген азаматтардың экономикалық мүдделерін қоғамдық ұдайы өндіріске қатысушылардың ақшалай табыстары мен қаражаттарын қалыптастыру және жұмсау жолымен көрсететін белгілі қоғамдық қажеттіліктерді қанағаттандыра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F:\жанара\тиь.bmp"/>
          <p:cNvPicPr/>
          <p:nvPr/>
        </p:nvPicPr>
        <p:blipFill>
          <a:blip r:embed="rId2"/>
          <a:stretch/>
        </p:blipFill>
        <p:spPr>
          <a:xfrm>
            <a:off x="6858000" y="49291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0:28:45Z</dcterms:created>
  <dc:creator>UserLib</dc:creator>
  <dc:description/>
  <dc:language>en-US</dc:language>
  <cp:lastModifiedBy>Admin</cp:lastModifiedBy>
  <dcterms:modified xsi:type="dcterms:W3CDTF">2012-01-13T06:01:14Z</dcterms:modified>
  <cp:revision>14</cp:revision>
  <dc:subject/>
  <dc:title> Мемлекеттік қаржының жалпы сипаттамасы. Мемлекеттік кірістер мен шығындар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